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398-F93A-4314-BB4B-521DFD46E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RED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CD29-6AFD-44CD-88A8-FD235DB6E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8B7-DBBB-4FB3-9C43-484DCF55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B95-1716-462C-B54A-AFFD5C83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375DB-63D1-4754-88F0-4F62D3F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D6DA7-AD65-4DBB-93B6-064928E4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16DEE-B22B-40FA-98BE-8CDE173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BDB49-1734-497C-A0AB-03FB048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EA6CF-FA58-4339-815C-B18700C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607B9-1719-436B-BEF8-BC60E9A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78EC8-1279-4397-B9D7-168D26F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0CF0C-CB57-451C-A1D3-FD64011F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BD3E6-D3BE-4D9C-81BE-E4FDA7A6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A9818-951D-4E5E-AECC-96843BDA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5DE-D946-43F7-8FA6-27220A0A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D79EB-0C9F-49F4-BD66-445561B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C4175-122D-4261-99F9-6C141AD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23B2F-119D-425D-8DCA-5DAC7B3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15878-24F9-466E-9127-D8E2F94D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EA377-1465-4E1B-A4B4-E5EC4BF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56C7C-C4A9-4119-9926-54F93EF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2C42F-0139-4139-8396-254D0ED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EC4F1-4300-4977-A9F8-802D5DB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CB6E6-EFB3-4F9A-A744-7E229A3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3B373-73B5-4A0F-8654-D14485B6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6D7-2C6E-4956-B1EC-96FB172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88F3E-7251-488E-ACAD-B5DD12D7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C06F-8F0E-4243-A7DB-FFCCD5D1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26D1F-73DC-4D2A-9C92-B218CC37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BC9C-631D-406F-9363-53417E9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49D5-20C6-461C-97B0-1444637F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75B0-9F5A-469A-B6C4-2127C655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5C88B-B241-48F9-89D7-A19C050D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DA45-833D-4ECB-BF04-6BE6C08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8973-57F0-4E01-A251-6B69FF2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DFF0-0938-43FC-A95D-1EEA71B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D3F7-078E-48F8-9823-3876370D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E381-D9F1-4C83-B372-B7D83BD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3A25E-78E0-4DB7-A326-E60A6B06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1AB4-7D30-41A5-B0FA-ABDC8D4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A8EC4-D419-4027-AEDC-E86B7B39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F0518-1E2F-4D09-A114-8D3D370B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614F6-22C3-4AA8-B901-B7B2155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A2DC2-E21B-4B2A-9891-64F6BF8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93417-025F-4A49-80FA-DD5A449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BC05A-B648-473B-A55F-5630D21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7CD75-A15F-47D6-9D78-F86F663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1DA-41CB-4401-A666-F679E01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735E5-593F-403A-A5B9-9E43DBF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406E1-A0D6-4600-B28F-33292D7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9DF45-F5E9-4E85-8D29-0650E4CC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BCEDE-74DA-4933-8E40-524F1B10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74638-0290-4AD7-B8DF-D576C41E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3132-B330-49F7-B556-513E8B40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8F97-BBDD-49C8-86B8-EFA6A9B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E34-7863-4DE5-A15F-AE0477ED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CFA-4648-402C-A02A-31F9F5EF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CA3E-4802-4DD1-AA7A-3AED60FC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3EC-B3D3-4F40-9F1D-5E5ADD9B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7948-5F9B-4440-BA67-6ACC676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F204-863B-4AF3-8B5E-4021E8A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BEA0-0B7C-477A-9C59-2F0A487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B5D-6C94-4181-A159-BB1B170A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75E3-01AA-4C1F-8998-BBB452D1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4FEC-D58E-42CA-BC5E-B3A8CDAF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7A71-5108-44D6-B339-95AA255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4AE0-6CA7-4D8A-8051-79A791CF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FB68-E705-4268-97A7-BBD1D07F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7C31-E26A-4916-A661-8827E189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715-A238-4259-A53F-02EBAE2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318B-686F-4DE3-849A-F214C36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0B9E-002C-4BC5-8D31-A166E18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F9CC-DF0A-4D79-BC29-8590E54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E98F-3A89-432E-AB9B-255B7D1F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8F3D-2827-4DE1-A7AB-0B0C710F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DD8F-22B7-423F-8217-59B00D4F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C86A-4C68-481F-A537-6F904DE1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25585-8BAE-49A9-B989-6B5EBDF7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3263-5117-408F-B679-2AE9E112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71EC-C51C-40A9-AB54-070835F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63-80AD-4CF9-B5C6-5AAB1909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50B6-B4B7-4C9B-B902-4435075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E8B7-4976-4F51-905C-9F460953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3FAF-9BCB-425F-BBB3-9378E638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632A-4181-4784-BE0F-418B4FF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02F7-FA3F-408E-A4C8-0EA5514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E46E-B593-41E9-87FF-BE743F7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B312-1226-42B9-AAF7-60DBF06D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8650-CF2E-492B-90DF-4DB969F8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6E4D-DDDC-487F-B6F5-DFC6114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2058-2BF1-40C1-83DC-133FDF18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15F-FBEB-4551-8F8B-75827782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3061-CEEF-414D-AEFC-762EE4E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11C2-4E44-4458-BABB-0A82DFE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39AF-0D77-4152-8A73-E70EA05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34A6-6B73-4379-87DD-EC2D531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BD17-2EC0-4194-9C74-3E111EF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40BA-54C0-42AB-908B-E71CAA3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AD74-027A-4FD9-AD83-118F0B1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F777-4082-4672-9B90-EB7C6A0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5F5A-AEF8-4208-AFFC-261F67F0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F614-60D2-42EA-B27B-E626B441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BAE-A9C3-4D14-86D3-8D763E4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A805-BED0-468E-9537-6EBE8FC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CD11-BE26-4433-812A-0A48BBF2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7959-779A-4475-B100-867A9DD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F701-C6C3-41AC-ADE6-CF891DB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784C-F3D4-47E3-B47A-EA9AE2EE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30A01-7BE3-4927-82B4-1DE6D8F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8A69-8492-419A-ABA7-014202D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E777-DCB1-4B9E-9DC1-30290C3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836B-F7A7-49EF-AC03-7CBB2A36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2621-3093-44BD-8774-3C6207B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A99-7218-43F8-B8D9-8CB6C2F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877A-E417-409F-A5D4-38E4210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5527-76F9-486D-9FB7-CE8288E1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FE67-43E1-4BC3-8920-F55AB558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19334-2F2F-4C88-AA15-B6604038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77F6-74FA-40D9-9146-63B4578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B203-D7C8-4713-AD14-EE316D0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20CB-7DFF-4FF5-80BC-A7389D4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4F2F-B433-4A0C-B0FA-B4FD3D9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EA7A-2C61-442F-B406-70DA766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06E0-81AC-4D7A-8979-852F610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4F8-104C-44B4-AA12-36A50B3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911A-4AC8-4692-9EFF-ACFC5AC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79D0-42F8-425F-89D8-5B2021D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3A8F-8FCD-43AF-BD0A-278B11D5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B93BD-33B0-4BB5-AA71-C2F67D3A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DB115-7A65-4646-8AD1-56631581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14819-31F3-46DB-B451-177A2976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1EA2-703B-4EFA-AB56-914E126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BE45E-3DA9-4C80-9D69-24C8D6C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8FF7-B2B1-4B54-A28D-DC487B8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4AD58-A64D-4CE7-8220-A148F58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A76-A7CF-424B-B2AB-6B5569A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4E6A-B97E-4715-8AAF-0441772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056F-DD80-408B-A054-7BF019B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7906-9A2D-499B-8E6A-1B9A455D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FE10-E64F-4B2D-90ED-68E2707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8034-7006-4D4F-BAEB-38430FB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BF07E-9078-42D2-AE6A-FFE1B55F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98496-1CE8-44AE-B4D3-C1A0070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53F56-CA7F-40BB-BA95-74E53650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FF0E7-F05D-4F48-AA07-A907668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2997-C124-43C4-A386-0B6988D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194-2DBF-48CF-AA1D-9725D6F6F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5B8-6DC2-49D2-B04B-E933BB77A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651-E0D2-44BD-AC64-E95DF0091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B5F-6457-4080-B73E-774064787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0A6-3662-4D83-8F63-4A434636B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4E7-56E8-4364-BD48-99DBD8399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6D3-387E-432A-9AF0-D331C6BB4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9961-046E-43D2-A6CC-2941B822F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186-BE0F-4FAA-B365-3F0226E38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E22-4EE2-4343-89C8-58ADB7F49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6B0-50D3-4C5F-935C-6A3CEB8A36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177-AFAA-405D-BE75-D3E357159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RPA&#354;II%20ORIENTALI.pptx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46b86"/>
                </a:solidFill>
                <a:latin typeface="Georgia"/>
              </a:rPr>
              <a:t>JOC PENTRU EVALUAREA ELEVIL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CARPAŢII ORIENTAL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Action Button: Forward or Next 3">
            <a:hlinkClick r:id="" action="ppaction://hlinkshowjump?jump=nextslide"/>
          </p:cNvPr>
          <p:cNvSpPr/>
          <p:nvPr/>
        </p:nvSpPr>
        <p:spPr>
          <a:xfrm>
            <a:off x="6429240" y="5572080"/>
            <a:ext cx="1714680" cy="428760"/>
          </a:xfrm>
          <a:custGeom>
            <a:avLst/>
            <a:gdLst>
              <a:gd name="textAreaLeft" fmla="*/ 27720 w 1714680"/>
              <a:gd name="textAreaRight" fmla="*/ 1686960 w 1714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86328" h="21600">
                <a:moveTo>
                  <a:pt x="0" y="0"/>
                </a:moveTo>
                <a:lnTo>
                  <a:pt x="86328" y="0"/>
                </a:lnTo>
                <a:lnTo>
                  <a:pt x="86328" y="21600"/>
                </a:lnTo>
                <a:lnTo>
                  <a:pt x="0" y="21600"/>
                </a:lnTo>
                <a:close/>
              </a:path>
              <a:path fill="lightenLess" w="86328" h="21600">
                <a:moveTo>
                  <a:pt x="0" y="0"/>
                </a:moveTo>
                <a:lnTo>
                  <a:pt x="86328" y="0"/>
                </a:lnTo>
                <a:lnTo>
                  <a:pt x="84928" y="1400"/>
                </a:lnTo>
                <a:lnTo>
                  <a:pt x="1400" y="1400"/>
                </a:lnTo>
                <a:close/>
              </a:path>
              <a:path fill="darken" w="86328" h="21600">
                <a:moveTo>
                  <a:pt x="86328" y="0"/>
                </a:moveTo>
                <a:lnTo>
                  <a:pt x="86328" y="21600"/>
                </a:lnTo>
                <a:lnTo>
                  <a:pt x="84928" y="20200"/>
                </a:lnTo>
                <a:lnTo>
                  <a:pt x="84928" y="1400"/>
                </a:lnTo>
                <a:close/>
              </a:path>
              <a:path fill="darkenLess" w="86328" h="21600">
                <a:moveTo>
                  <a:pt x="8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8" y="20200"/>
                </a:lnTo>
                <a:close/>
              </a:path>
              <a:path fill="lighten" w="8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28" h="21600">
                <a:moveTo>
                  <a:pt x="36157" y="3794"/>
                </a:moveTo>
                <a:lnTo>
                  <a:pt x="50170" y="10800"/>
                </a:lnTo>
                <a:lnTo>
                  <a:pt x="3615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6357960" y="4786200"/>
            <a:ext cx="200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357120" y="5072040"/>
            <a:ext cx="485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52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4. VÂRFUL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PIETROSU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, DIN MUNŢII RODNEI ARE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33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30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03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Action Button: Custom 3">
            <a:hlinkClick r:id="rId1" action="ppaction://hlinksldjump"/>
          </p:cNvPr>
          <p:cNvSpPr/>
          <p:nvPr/>
        </p:nvSpPr>
        <p:spPr>
          <a:xfrm>
            <a:off x="642960" y="2643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Action Button: Custom 4">
            <a:hlinkClick r:id="rId2" action="ppaction://hlinksldjump"/>
          </p:cNvPr>
          <p:cNvSpPr/>
          <p:nvPr/>
        </p:nvSpPr>
        <p:spPr>
          <a:xfrm>
            <a:off x="642960" y="35719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Action Button: Custom 5">
            <a:hlinkClick r:id="rId3" action="ppaction://hlinksldjump"/>
          </p:cNvPr>
          <p:cNvSpPr/>
          <p:nvPr/>
        </p:nvSpPr>
        <p:spPr>
          <a:xfrm>
            <a:off x="642960" y="464328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Picture 6" descr="DSCF0026.JPG"/>
          <p:cNvPicPr/>
          <p:nvPr/>
        </p:nvPicPr>
        <p:blipFill>
          <a:blip r:embed="rId4"/>
          <a:srcRect l="5321" t="11346" r="8513" b="14894"/>
          <a:stretch/>
        </p:blipFill>
        <p:spPr>
          <a:xfrm>
            <a:off x="2786040" y="2071800"/>
            <a:ext cx="5786640" cy="3714480"/>
          </a:xfrm>
          <a:prstGeom prst="rect">
            <a:avLst/>
          </a:prstGeom>
          <a:ln w="0">
            <a:noFill/>
          </a:ln>
        </p:spPr>
      </p:pic>
      <p:sp>
        <p:nvSpPr>
          <p:cNvPr id="659" name="Right Arrow 7"/>
          <p:cNvSpPr/>
          <p:nvPr/>
        </p:nvSpPr>
        <p:spPr>
          <a:xfrm>
            <a:off x="4714920" y="24289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62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65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5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MUNŢII CĂLIMANI, BISTRIŢEI, GURGHIULUI ŞI HARGHITEI SE AFLĂ ÎN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 SU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NOR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CENTRAL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3" descr="DSCF0026.JPG"/>
          <p:cNvPicPr/>
          <p:nvPr/>
        </p:nvPicPr>
        <p:blipFill>
          <a:blip r:embed="rId1"/>
          <a:srcRect l="4687" t="10410" r="6249" b="13541"/>
          <a:stretch/>
        </p:blipFill>
        <p:spPr>
          <a:xfrm>
            <a:off x="4500720" y="2143080"/>
            <a:ext cx="4329000" cy="3000600"/>
          </a:xfrm>
          <a:prstGeom prst="rect">
            <a:avLst/>
          </a:prstGeom>
          <a:ln w="0">
            <a:noFill/>
          </a:ln>
        </p:spPr>
      </p:pic>
      <p:sp>
        <p:nvSpPr>
          <p:cNvPr id="669" name="Action Button: Custom 4">
            <a:hlinkClick r:id="rId2" action="ppaction://hlinksldjump"/>
          </p:cNvPr>
          <p:cNvSpPr/>
          <p:nvPr/>
        </p:nvSpPr>
        <p:spPr>
          <a:xfrm>
            <a:off x="571680" y="207180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Action Button: Custom 5">
            <a:hlinkClick r:id="rId3" action="ppaction://hlinksldjump"/>
          </p:cNvPr>
          <p:cNvSpPr/>
          <p:nvPr/>
        </p:nvSpPr>
        <p:spPr>
          <a:xfrm>
            <a:off x="571680" y="307188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Action Button: Custom 6">
            <a:hlinkClick r:id="rId4" action="ppaction://hlinksldjump"/>
          </p:cNvPr>
          <p:cNvSpPr/>
          <p:nvPr/>
        </p:nvSpPr>
        <p:spPr>
          <a:xfrm>
            <a:off x="571680" y="407196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74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77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6. DIN MUNŢI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HĂŞMASU MARE 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IZVORĂSC RÂURILE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MUREŞUL ŞI OLTU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SIRETUL ŞI PRUTU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RGEŞUL ŞI IALOMIŢ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Action Button: Custom 3">
            <a:hlinkClick r:id="rId1" action="ppaction://hlinksldjump"/>
          </p:cNvPr>
          <p:cNvSpPr/>
          <p:nvPr/>
        </p:nvSpPr>
        <p:spPr>
          <a:xfrm>
            <a:off x="571680" y="207180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Action Button: Custom 4"/>
          <p:cNvSpPr/>
          <p:nvPr/>
        </p:nvSpPr>
        <p:spPr>
          <a:xfrm>
            <a:off x="571680" y="300024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Action Button: Custom 5"/>
          <p:cNvSpPr/>
          <p:nvPr/>
        </p:nvSpPr>
        <p:spPr>
          <a:xfrm>
            <a:off x="571680" y="407196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3" name="Picture 7" descr="AG00037_.GIF"/>
          <p:cNvPicPr/>
          <p:nvPr/>
        </p:nvPicPr>
        <p:blipFill>
          <a:blip r:embed="rId2"/>
          <a:stretch/>
        </p:blipFill>
        <p:spPr>
          <a:xfrm>
            <a:off x="6429240" y="2143080"/>
            <a:ext cx="1792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86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89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1.UNDE SE ÎNTIND CARPAŢII ORIENT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HOTARUL DE NORD AL ŢĂTII NOASTRE, PÂNĂ LA VALEA PRAHOVE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VALEA PRAHOVEI, PÂNĂ LA VĂILE RÂURILOR TIMIŞ, CERNA ŞI BIST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DUNĂRE,PÂNĂ LA VĂILE RÂURILOR BARCĂU ŞI SOME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Action Button: Custom 3">
            <a:hlinkClick r:id="" action="ppaction://hlinkshowjump?jump=nextslide"/>
          </p:cNvPr>
          <p:cNvSpPr/>
          <p:nvPr/>
        </p:nvSpPr>
        <p:spPr>
          <a:xfrm>
            <a:off x="500040" y="1500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Action Button: Custom 4">
            <a:hlinkClick r:id="rId1" action="ppaction://hlinksldjump"/>
          </p:cNvPr>
          <p:cNvSpPr/>
          <p:nvPr/>
        </p:nvSpPr>
        <p:spPr>
          <a:xfrm>
            <a:off x="500040" y="285768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Action Button: Custom 5">
            <a:hlinkClick r:id="rId2" action="ppaction://hlinksldjump"/>
          </p:cNvPr>
          <p:cNvSpPr/>
          <p:nvPr/>
        </p:nvSpPr>
        <p:spPr>
          <a:xfrm>
            <a:off x="500040" y="42861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7.DIN GRUPA SUDICĂ FAC PARTE MUNŢII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UTÂIULUI, RODNEI, MARAMUREŞULU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URGHIULUI, BISTRIŢEI, CĂLIMAN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VRANCEI, BUZĂULUI, CIUCA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3" descr="TR00482_.WMF"/>
          <p:cNvPicPr/>
          <p:nvPr/>
        </p:nvPicPr>
        <p:blipFill>
          <a:blip r:embed="rId1"/>
          <a:stretch/>
        </p:blipFill>
        <p:spPr>
          <a:xfrm>
            <a:off x="6643800" y="4429080"/>
            <a:ext cx="2092320" cy="1714680"/>
          </a:xfrm>
          <a:prstGeom prst="rect">
            <a:avLst/>
          </a:prstGeom>
          <a:ln w="0">
            <a:noFill/>
          </a:ln>
        </p:spPr>
      </p:pic>
      <p:sp>
        <p:nvSpPr>
          <p:cNvPr id="693" name="Action Button: Custom 4"/>
          <p:cNvSpPr/>
          <p:nvPr/>
        </p:nvSpPr>
        <p:spPr>
          <a:xfrm>
            <a:off x="642960" y="207180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Action Button: Custom 5"/>
          <p:cNvSpPr/>
          <p:nvPr/>
        </p:nvSpPr>
        <p:spPr>
          <a:xfrm>
            <a:off x="642960" y="3000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Action Button: Custom 6"/>
          <p:cNvSpPr/>
          <p:nvPr/>
        </p:nvSpPr>
        <p:spPr>
          <a:xfrm>
            <a:off x="642960" y="4000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98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01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8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 SUNT  TRECĂTORI (PASURI) ÎN CARPAŢII ORIENTALI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OZIA, BĂNIŢA, DOMAŞNE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RAN, LAINICI, TURNU ROŞ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RISLOP, BICAZ, OITUZ, PREDE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Action Button: Custom 3"/>
          <p:cNvSpPr/>
          <p:nvPr/>
        </p:nvSpPr>
        <p:spPr>
          <a:xfrm>
            <a:off x="571680" y="257184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Action Button: Custom 4"/>
          <p:cNvSpPr/>
          <p:nvPr/>
        </p:nvSpPr>
        <p:spPr>
          <a:xfrm>
            <a:off x="571680" y="35002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Action Button: Custom 5"/>
          <p:cNvSpPr/>
          <p:nvPr/>
        </p:nvSpPr>
        <p:spPr>
          <a:xfrm>
            <a:off x="571680" y="450072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09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12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9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BOGĂŢII ALE CARPAŢILOR ORIENTALI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UR, MARMURĂ, PLATINĂ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ĂRBUNI, METALE, APE MINER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ODGORII, VII, LIVEZ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Action Button: Custom 6"/>
          <p:cNvSpPr/>
          <p:nvPr/>
        </p:nvSpPr>
        <p:spPr>
          <a:xfrm>
            <a:off x="500040" y="25718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Action Button: Custom 7"/>
          <p:cNvSpPr/>
          <p:nvPr/>
        </p:nvSpPr>
        <p:spPr>
          <a:xfrm>
            <a:off x="500040" y="342900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Action Button: Custom 8"/>
          <p:cNvSpPr/>
          <p:nvPr/>
        </p:nvSpPr>
        <p:spPr>
          <a:xfrm>
            <a:off x="500040" y="45007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20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23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5" descr="PH01046J.JPG"/>
          <p:cNvPicPr/>
          <p:nvPr/>
        </p:nvPicPr>
        <p:blipFill>
          <a:blip r:embed="rId1"/>
          <a:stretch/>
        </p:blipFill>
        <p:spPr>
          <a:xfrm>
            <a:off x="2538360" y="428760"/>
            <a:ext cx="3890880" cy="5740200"/>
          </a:xfrm>
          <a:prstGeom prst="rect">
            <a:avLst/>
          </a:prstGeom>
          <a:ln w="0">
            <a:noFill/>
          </a:ln>
        </p:spPr>
      </p:pic>
      <p:pic>
        <p:nvPicPr>
          <p:cNvPr id="725" name="Rectangle 3" descr=""/>
          <p:cNvPicPr/>
          <p:nvPr/>
        </p:nvPicPr>
        <p:blipFill>
          <a:blip r:embed="rId2"/>
          <a:stretch/>
        </p:blipFill>
        <p:spPr>
          <a:xfrm>
            <a:off x="225360" y="4406760"/>
            <a:ext cx="8504280" cy="1444680"/>
          </a:xfrm>
          <a:prstGeom prst="rect">
            <a:avLst/>
          </a:prstGeom>
          <a:ln w="0">
            <a:noFill/>
          </a:ln>
        </p:spPr>
      </p:pic>
      <p:sp>
        <p:nvSpPr>
          <p:cNvPr id="726" name="TextBox 4"/>
          <p:cNvSpPr/>
          <p:nvPr/>
        </p:nvSpPr>
        <p:spPr>
          <a:xfrm>
            <a:off x="1285920" y="9288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eorgia"/>
              </a:rPr>
              <a:t>CLICK AICI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Oval 7"/>
          <p:cNvSpPr/>
          <p:nvPr/>
        </p:nvSpPr>
        <p:spPr>
          <a:xfrm>
            <a:off x="4357800" y="1500120"/>
            <a:ext cx="357120" cy="357120"/>
          </a:xfrm>
          <a:prstGeom prst="ellips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Right Arrow 8"/>
          <p:cNvSpPr/>
          <p:nvPr/>
        </p:nvSpPr>
        <p:spPr>
          <a:xfrm>
            <a:off x="3143160" y="1428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25" name="Action Button: Forward or Next 6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28" name="Action Button: Back or Previous 6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2. ÎN CÂTE GRUPE SUNT ÎMPĂRŢIŢI CARPAŢII ORIENT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3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4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Action Button: Custom 3">
            <a:hlinkClick r:id="rId1" action="ppaction://hlinksldjump"/>
          </p:cNvPr>
          <p:cNvSpPr/>
          <p:nvPr/>
        </p:nvSpPr>
        <p:spPr>
          <a:xfrm>
            <a:off x="500040" y="257184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Action Button: Custom 4">
            <a:hlinkClick r:id="rId2" action="ppaction://hlinksldjump"/>
          </p:cNvPr>
          <p:cNvSpPr/>
          <p:nvPr/>
        </p:nvSpPr>
        <p:spPr>
          <a:xfrm>
            <a:off x="500040" y="35719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Action Button: Custom 5">
            <a:hlinkClick r:id="rId3" action="ppaction://hlinksldjump"/>
          </p:cNvPr>
          <p:cNvSpPr/>
          <p:nvPr/>
        </p:nvSpPr>
        <p:spPr>
          <a:xfrm>
            <a:off x="500040" y="457200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6" descr="DSCF4753.JPG"/>
          <p:cNvPicPr/>
          <p:nvPr/>
        </p:nvPicPr>
        <p:blipFill>
          <a:blip r:embed="rId4"/>
          <a:stretch/>
        </p:blipFill>
        <p:spPr>
          <a:xfrm>
            <a:off x="3571920" y="2000160"/>
            <a:ext cx="4667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37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40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3. MUNŢII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GUTÂIULUI, MARAMUREŞULUI ŞI RODNEI 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FAC PARTE DIN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SU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NOR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CENTRAL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Action Button: Custom 3">
            <a:hlinkClick r:id="rId1" action="ppaction://hlinksldjump"/>
          </p:cNvPr>
          <p:cNvSpPr/>
          <p:nvPr/>
        </p:nvSpPr>
        <p:spPr>
          <a:xfrm>
            <a:off x="571680" y="21430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Action Button: Custom 4">
            <a:hlinkClick r:id="rId2" action="ppaction://hlinksldjump"/>
          </p:cNvPr>
          <p:cNvSpPr/>
          <p:nvPr/>
        </p:nvSpPr>
        <p:spPr>
          <a:xfrm>
            <a:off x="642960" y="3000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Action Button: Custom 5">
            <a:hlinkClick r:id="rId3" action="ppaction://hlinksldjump"/>
          </p:cNvPr>
          <p:cNvSpPr/>
          <p:nvPr/>
        </p:nvSpPr>
        <p:spPr>
          <a:xfrm>
            <a:off x="642960" y="4000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Picture 6" descr="DSCF4840.JPG"/>
          <p:cNvPicPr/>
          <p:nvPr/>
        </p:nvPicPr>
        <p:blipFill>
          <a:blip r:embed="rId4"/>
          <a:stretch/>
        </p:blipFill>
        <p:spPr>
          <a:xfrm>
            <a:off x="4714920" y="2714760"/>
            <a:ext cx="3706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49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4:19:36Z</dcterms:created>
  <dc:creator>ANGELICA</dc:creator>
  <dc:description/>
  <dc:language>en-US</dc:language>
  <cp:lastModifiedBy>IULIA</cp:lastModifiedBy>
  <dcterms:modified xsi:type="dcterms:W3CDTF">2010-01-30T14:46:11Z</dcterms:modified>
  <cp:revision>25</cp:revision>
  <dc:subject/>
  <dc:title>CARPAŢII ORIENTALI</dc:title>
</cp:coreProperties>
</file>